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7D73-1046-44A2-9B08-DCD3FAFB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08C6-A1AB-497E-A33C-E72CB291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2F28-B9B4-482A-926C-8A4ED81C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FCA7-97B4-4E52-BC56-F490CDBC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66B5-0BDD-4FE1-87EB-A5695B0A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03B5-C9B2-4176-A8C3-5B8EBC3D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1177-143E-4C85-88CB-9AEDB0C2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78DC-C43D-4108-A0BA-CB236E2E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54C8-9628-4840-89B5-87CC00E5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5823-DBE1-48BF-BD67-DD3440C4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F577-3CDA-4F2F-B144-FDEFF4A6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C377-5D8E-4099-8308-35C1EF3C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9656-FE3D-4F9C-AFB8-F44B4D7D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4F3D-16AE-4C50-9476-9FD32E99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8830-4BF4-4EE4-98EE-66A46A13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B5F7-FD9E-4791-BB1D-39667DB1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1F34-6D7E-413E-AE05-57B26890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73EE-3A20-461E-A27C-16774A88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8ABD-9FED-4300-A6DB-3597724D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D2AD-EF82-426B-A52B-9067B016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D172-01F2-4272-A91E-53900D44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C4E0-3B26-415F-9491-0A23811E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AA84-3FF6-4A7D-A88C-6BA5D110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CA17-4679-482E-8DA7-AF36A6D5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A785-F923-4072-A045-89B2EF1959D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8EBA-1C1F-450C-9A33-BD14B140C09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ingular and Plural Nou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Second Grade Gramm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ingular Nou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Singular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nouns name </a:t>
            </a:r>
            <a:r>
              <a:rPr b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one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person, place, thing, or animal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og               bench                    gir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at                 kite                       bo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ouse           park                      glas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ar                couch                   hear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eacher         dish                      wish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lural Nouns with Suffix -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Plural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uns name </a:t>
            </a:r>
            <a:r>
              <a:rPr b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more than one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person, place, thing, or animal.  Add suffix -s to most singular nouns to make them plural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og-dog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  house-house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bug-bug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rk-park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teacher-teacher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boy-boy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hair-chair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book-book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pencil-pencil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lural Nouns with Suffix -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o make singular nouns that end with 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s, ch, sh, or x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plural, add suffix -es to the word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ush-bush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e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church-church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lass-glass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e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fox-fox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ish-wish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e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couch-couch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ox-box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e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  class-class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6:45:09Z</dcterms:created>
  <dc:creator>GCSD</dc:creator>
  <dc:description/>
  <dc:language>en-US</dc:language>
  <cp:lastModifiedBy>teacher</cp:lastModifiedBy>
  <dcterms:modified xsi:type="dcterms:W3CDTF">2010-09-28T22:24:05Z</dcterms:modified>
  <cp:revision>2</cp:revision>
  <dc:subject/>
  <dc:title>Singular and Plural Nouns</dc:title>
</cp:coreProperties>
</file>